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EB2-0B3A-4D0E-A8AC-D2B08115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1D9-E1F8-4F1A-A897-CE757987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8D7A0-27C0-4F6C-ABF7-70CFE86A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5B8FD-586E-479A-9D3C-C68DD141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002B-62DE-47AF-A0C4-53A1D78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E7842-CC73-4720-96A0-E02F3BFB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AAF8A-9642-475A-84CB-1834F13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8711-4506-4EB1-A6EB-EF0BBEC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488A3-5CC5-4727-A966-0D9A303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AD527-F314-42FA-821B-AD6C3B2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97ADF-2466-4052-B8F0-FC220E46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E072C-EA5D-4ACE-A95B-F6C78B49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207-A2D2-4723-A618-1F64F08C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287AD-E728-4912-B55D-2ECA4988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87BB-E4EA-4E7E-B8EF-10D6159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5B986-6FCE-470B-BFF8-F41A7313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4ACE-F500-44F7-B82D-9B5D511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BC1B2-4B80-4992-95FF-0E51980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113D-1D83-479C-B2BF-217E0A3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A65D0-C72C-440A-B9D8-00F3D34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09B8-6D68-4C05-A28E-DF9193D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BDF9-497C-42F8-A900-894C142C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9F3A9-A578-4F96-929F-3A5D466F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124-5986-4300-BC37-DB518DF2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7D512-3F11-4393-AB14-6C77E79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B74F-19DC-42B4-9915-2BA2B679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DA6D6-19EB-4408-915C-C8834D9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E0C38-E991-4347-8497-16A8851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2B5F2-4477-4EA0-BF2F-64B848D6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6685-AD16-4482-9526-811597A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8814-1427-4B59-B58B-06A8A1FF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52802-C9A9-4018-81E6-CEB1226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C42C9-B24A-44E7-AD1B-9A3EF8E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07F5C-E382-4FAD-87E0-A3450A4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4E8B-95A7-4B01-9C40-5183C7BD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2E6BE-8FFA-40A8-AA37-27ABC674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92FC-D577-4305-AA65-9A3E2F9B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5FA78-9914-44BB-9EA5-4518ACF3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D4CAE-C4BB-4522-A0E6-A894E1B2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81538-900E-4552-8CC6-BC0A24C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F8CBB-96EE-41B9-B02C-E6A18B3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02AA1-5427-46C9-BB92-6A5228A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0D14A-378C-4AF2-ABFE-996F0636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84A54-FD81-42A4-A75B-FAA0919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834C-36E3-4486-8A6E-715A59F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7A2F-FEAC-4709-A9D2-2A0A79D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06CE-4980-4933-84F4-F176AC0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8186C-29D3-464B-87E1-568A3F3D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0F1D3-1DFA-4D47-AD41-5464220F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3EE6A-ABAB-478D-86E7-D5866A86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A4169-8852-4168-8285-A5E5B4CD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77F-27C1-40AA-B00C-A728040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C17-3931-4579-8E80-C580A29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248D-FD5A-45DD-8706-62F3E54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00D-7B17-4206-8611-4262FF0E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D909-8E0E-46B4-B8EC-8A17542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687-AACA-4A48-917C-2956279A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B8C-0FE8-4B57-9065-61ADACAA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608-543A-4727-A23E-DE7F650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56D9-33E5-456D-863F-EDAD8DF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53F-A4C1-469F-BE7A-3D280365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FA10-3CD6-4CB3-BA97-7F1885E5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F63A-38B2-4CD7-B539-42E823A7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5B8A-DC5B-4A13-84E7-5BC4AB0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B37C-EF01-479F-920B-8DB701C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545B-8CB3-48BB-B24C-579D2200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CF3D-1F44-455B-B6A3-485FCC4C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0F0-9FBA-4E2C-86D1-591ECBD0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158B-7C88-4CE3-BD04-307397D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F37F-24AF-4057-AEC5-2729580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BBAB-091A-4EC4-AB2C-DFDC340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6652-24F4-4790-B8C1-6FFED26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ECDA-6A8F-41A6-8F95-859149A6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C4B2-1968-4A4F-8E9F-76CDA668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E085-AF70-4A89-98B3-EE414ED0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05A2-CDF4-4C95-B9BC-E575503F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41BDB-B8A5-43DF-833B-B27D7E0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CF19-40AC-48DF-BE6F-61482F7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075-708B-4954-A2BD-1FB301DF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273D-6498-4987-AD98-400F56C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7444-8855-461B-94AD-F2A5F2C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1368-5A4E-45E4-9FBB-9C37BB3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F9A1-411E-4379-A246-1B38673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5DDA-07E9-4E71-9456-FBD6DDB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289E-1DF0-400F-990F-131F35E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0C74-9CCF-4F0A-87C7-0C12C7E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7382-AAD2-4EA8-82A9-4034FDCA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4526-DD5C-47FF-A511-9EA90655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D040-E8A8-49FC-8459-0F4A231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E6C-0165-4014-9CA1-E001C05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D78D-CFB0-4EBA-9A90-264AC69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2B1A-4562-4D3D-99B5-834072E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F305-F15A-4BB2-8A15-802A2C5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C403D-BA2E-429A-85BE-BAE4B953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7662D-F598-457F-B6A6-E8F8980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E16B-353C-4B63-958E-E7A3728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8FA2-5A44-4C23-A621-EA583337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4FC5-BF8A-4130-B872-54E8E2A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6009-B46E-4E93-B07F-96B76FF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DADC-75C6-42D6-ABC4-9CC3A623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EAB-125E-46A6-9CF0-D59FB160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1370-6513-431E-AB4F-C54EC57D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691B-8CD3-43FD-A336-3DA69112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B3E3-DF14-427A-B6DF-6EE823D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2344-D6CB-45E3-94D5-7BA4406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5883-9BBA-49A4-8287-EEEB931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A156-5932-460A-9BFF-F6C66C5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2B0D-05CD-40F0-90C6-B3BA4210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1BFA-A433-42D9-9D35-C7CB107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F4F6A-B13E-4848-AC64-CCE60E1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E16F-4830-4F7D-AE10-A70C770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AD2-45C9-421C-8A9F-F6398E6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30C6-DF61-4E6B-AF09-0AA011A6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81DE-D994-49E7-A5AA-830A4D83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50EC-8D02-4241-8A49-A274DBA0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166C-BF40-4822-8C79-2AA54B0F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6A75-6405-4F48-85EE-4C2A750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027A-F97B-43E3-B1DF-FA94E38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1134-976A-48E3-8217-27EE4AF2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16F23-0C78-4E42-8B2D-BCDCA7B0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B87A-AC15-46EE-A725-FE95190A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01260-193B-4E99-A09B-9EB1F6A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777-D065-4173-AB3F-B99C04B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79E0-63B2-4260-8304-07E82B3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2419-FC14-40B4-B9E0-10CA22B1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92C4F-F093-483C-96B4-5231431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3FD6-2242-4D3E-911C-9C7A40C5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514EF-05FE-4206-9F30-D9E5A1CC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8216-BC22-41F1-B1D2-E2F12764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29D5E-A232-48A3-85A6-C99B8B1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7869D-46EF-480F-ADE1-78ACEB06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E6409-1456-4CD5-BED9-F07EADE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EE20D-2B66-42DC-8D8C-7328572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E5C-1E04-4C7A-AE3E-29A5679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2B86-1F90-400C-B05C-FE7D7C1F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82D1-51CB-4A55-BE93-460439D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D4098-58D7-4D31-98E1-86492AD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8EF1-97DC-4090-B61D-FF8A3F2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7F52-0C9E-48FC-9F84-D3551ECE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5E39-F6B5-4337-8299-4BB644E2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D9F2-76CB-440C-97C2-ACB50C42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16C84-326F-434B-9502-7927BF69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B21FB-159A-4192-A441-4F19B6BD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BB809-3028-49CE-9209-614DFA4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21C-56CC-4181-BEE3-3C0D355A6768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F15-101B-49F1-8CF7-62C23B61FA9B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FC3A-FE2A-4DC1-B962-B3A140A8EB68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93D-2F0C-4D8A-9B2A-D24C1ABB639E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8F6A-51BB-48E2-ADDE-E209100AC688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932-8D48-457F-B569-7FA3F2C833D5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262-0A8A-4106-A8DE-C869F084A524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8587-785D-4BC3-BDFB-5C0B271B39EA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71D-4960-481C-9FAB-9C542320A418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881-0CE0-4341-8545-034486F6AF79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B17-086D-4B79-8250-247677C5B93D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CFA-248C-433F-8E0F-53FC397CED41}" type="slidenum">
              <a:rPr b="1" lang="en-C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3.2-  IMPEDIMENTS TO SOCIAL CHANG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2700000" y="3068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d4d4d4"/>
              </a:solidFill>
              <a:latin typeface="Gill Sans MT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27000" y="1569960"/>
            <a:ext cx="4286160" cy="3733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4716360" y="1569960"/>
            <a:ext cx="424836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Participatory Research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bjects itself participate in deciding goals and methods of study should b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bjects also decide how the findings should be us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EX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127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971640" y="1847880"/>
            <a:ext cx="69134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SOCIAL SCIENCE INQUIRY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As a result of limitations of PR , 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Advocacy Research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introduc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Functions will remain with the researcher, who becomes the advocat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Case Study Page 75-76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Gill Sans MT"/>
              </a:rPr>
              <a:t>#’s 1-4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1080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James Scott- Participant Observ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Everyday Forms of Peasant Resistan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abot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Deser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low work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Both sides were constructing their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Worldview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Rich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Were pushing idea of </a:t>
            </a:r>
            <a:r>
              <a:rPr b="1" lang="en-CA" sz="2800" spc="-1" strike="noStrike">
                <a:solidFill>
                  <a:srgbClr val="ffffff"/>
                </a:solidFill>
                <a:latin typeface="Gill Sans MT"/>
              </a:rPr>
              <a:t>Modern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All social change is inevitable and of benefit because it leads to an improved socie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Suggest new technology was more efficient, easier on the land, increased competitiveness which in turn increased wealth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Labourer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Gill Sans MT"/>
              </a:rPr>
              <a:t>Traditional Worldview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Adherence to old practices, especially those of charity and consideration for the poor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Gill Sans MT"/>
              </a:rPr>
              <a:t>Ability to find work, was key to economic and cultural survival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Claimed that the machines would be good at first, but then they would damage rice paddies in long ru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Owners backed by international agricultural equipment manufacturers and bank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Local rice farmers rooted in their cul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RADITIONAL CULTURAL VALUES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(P.73-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In the end, some mechanical processes were introduc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ill Sans MT"/>
              </a:rPr>
              <a:t>Many labourers kept their employment but were assigned different job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IMPEDIMENTS TO CHANGE: 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Gill Sans MT"/>
              </a:rPr>
              <a:t>THE EXPENSE (P.74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5:56Z</dcterms:created>
  <dc:creator>Jason</dc:creator>
  <dc:description/>
  <dc:language>en-US</dc:language>
  <cp:lastModifiedBy>Jason</cp:lastModifiedBy>
  <dcterms:modified xsi:type="dcterms:W3CDTF">2010-10-08T16:23:34Z</dcterms:modified>
  <cp:revision>7</cp:revision>
  <dc:subject/>
  <dc:title>3.2-  Impediments to Social Change</dc:title>
</cp:coreProperties>
</file>